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61.png" ContentType="image/png"/>
  <Override PartName="/ppt/media/image96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9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564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56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56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564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564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564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56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564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564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萬用卡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萬用卡02" descr="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3333ff"/>
                </a:solidFill>
                <a:latin typeface="隶书"/>
                <a:ea typeface="隶书"/>
              </a:rPr>
              <a:t>3</a:t>
            </a:r>
            <a:r>
              <a:rPr b="1" lang="zh-CN" sz="2000" spc="-1" strike="noStrike">
                <a:solidFill>
                  <a:srgbClr val="3333ff"/>
                </a:solidFill>
                <a:latin typeface="隶书"/>
                <a:ea typeface="隶书"/>
              </a:rPr>
              <a:t>章 文字处理系统</a:t>
            </a:r>
            <a:r>
              <a:rPr b="1" lang="zh-CN" sz="2000" spc="-1" strike="noStrike">
                <a:solidFill>
                  <a:srgbClr val="3333ff"/>
                </a:solidFill>
                <a:latin typeface="隶书"/>
                <a:ea typeface="隶书"/>
              </a:rPr>
              <a:t>Word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46.xml"/><Relationship Id="rId7" Type="http://schemas.openxmlformats.org/officeDocument/2006/relationships/slide" Target="slide46.xml"/><Relationship Id="rId8" Type="http://schemas.openxmlformats.org/officeDocument/2006/relationships/slide" Target="slide95.xml"/><Relationship Id="rId9" Type="http://schemas.openxmlformats.org/officeDocument/2006/relationships/slide" Target="slide95.xml"/><Relationship Id="rId10" Type="http://schemas.openxmlformats.org/officeDocument/2006/relationships/slide" Target="slide114.xml"/><Relationship Id="rId11" Type="http://schemas.openxmlformats.org/officeDocument/2006/relationships/slide" Target="slide114.xml"/><Relationship Id="rId12" Type="http://schemas.openxmlformats.org/officeDocument/2006/relationships/slide" Target="slide139.xml"/><Relationship Id="rId13" Type="http://schemas.openxmlformats.org/officeDocument/2006/relationships/slide" Target="slide139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7.xml"/><Relationship Id="rId3" Type="http://schemas.openxmlformats.org/officeDocument/2006/relationships/slide" Target="slide20.xml"/><Relationship Id="rId4" Type="http://schemas.openxmlformats.org/officeDocument/2006/relationships/slide" Target="slide24.xml"/><Relationship Id="rId5" Type="http://schemas.openxmlformats.org/officeDocument/2006/relationships/slide" Target="slide28.xml"/><Relationship Id="rId6" Type="http://schemas.openxmlformats.org/officeDocument/2006/relationships/slide" Target="slide42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95.xml"/><Relationship Id="rId3" Type="http://schemas.openxmlformats.org/officeDocument/2006/relationships/slide" Target="slide95.xml"/><Relationship Id="rId4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95.xml"/><Relationship Id="rId3" Type="http://schemas.openxmlformats.org/officeDocument/2006/relationships/slide" Target="slide95.xml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" Target="slide121.xml"/><Relationship Id="rId3" Type="http://schemas.openxmlformats.org/officeDocument/2006/relationships/slide" Target="slide127.xml"/><Relationship Id="rId4" Type="http://schemas.openxmlformats.org/officeDocument/2006/relationships/slide" Target="slide131.xml"/><Relationship Id="rId5" Type="http://schemas.openxmlformats.org/officeDocument/2006/relationships/slide" Target="slide136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" Target="slide114.xml"/><Relationship Id="rId3" Type="http://schemas.openxmlformats.org/officeDocument/2006/relationships/slide" Target="slide114.xml"/><Relationship Id="rId4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114.xml"/><Relationship Id="rId3" Type="http://schemas.openxmlformats.org/officeDocument/2006/relationships/slide" Target="slide114.xml"/><Relationship Id="rId4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" Target="slide114.xml"/><Relationship Id="rId3" Type="http://schemas.openxmlformats.org/officeDocument/2006/relationships/slide" Target="slide114.xml"/><Relationship Id="rId4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" Target="slide114.xml"/><Relationship Id="rId3" Type="http://schemas.openxmlformats.org/officeDocument/2006/relationships/slide" Target="slide114.xml"/><Relationship Id="rId4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" Target="slide114.xml"/><Relationship Id="rId3" Type="http://schemas.openxmlformats.org/officeDocument/2006/relationships/slide" Target="slide114.xml"/><Relationship Id="rId4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" Target="slide140.xml"/><Relationship Id="rId2" Type="http://schemas.openxmlformats.org/officeDocument/2006/relationships/slide" Target="slide141.xml"/><Relationship Id="rId3" Type="http://schemas.openxmlformats.org/officeDocument/2006/relationships/slide" Target="slide144.xml"/><Relationship Id="rId4" Type="http://schemas.openxmlformats.org/officeDocument/2006/relationships/slide" Target="slide147.xml"/><Relationship Id="rId5" Type="http://schemas.openxmlformats.org/officeDocument/2006/relationships/slide" Target="slide149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" Target="slide139.xml"/><Relationship Id="rId2" Type="http://schemas.openxmlformats.org/officeDocument/2006/relationships/slide" Target="slide139.xml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139.xml"/><Relationship Id="rId3" Type="http://schemas.openxmlformats.org/officeDocument/2006/relationships/slide" Target="slide139.xml"/><Relationship Id="rId4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" Target="slide139.xml"/><Relationship Id="rId3" Type="http://schemas.openxmlformats.org/officeDocument/2006/relationships/slide" Target="slide139.xml"/><Relationship Id="rId4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slide139.xml"/><Relationship Id="rId3" Type="http://schemas.openxmlformats.org/officeDocument/2006/relationships/slide" Target="slide139.xml"/><Relationship Id="rId4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" Target="slide139.xml"/><Relationship Id="rId3" Type="http://schemas.openxmlformats.org/officeDocument/2006/relationships/slide" Target="slide13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3.xml"/><Relationship Id="rId3" Type="http://schemas.openxmlformats.org/officeDocument/2006/relationships/slide" Target="slide69.xml"/><Relationship Id="rId4" Type="http://schemas.openxmlformats.org/officeDocument/2006/relationships/slide" Target="slide77.xml"/><Relationship Id="rId5" Type="http://schemas.openxmlformats.org/officeDocument/2006/relationships/slide" Target="slide82.xml"/><Relationship Id="rId6" Type="http://schemas.openxmlformats.org/officeDocument/2006/relationships/slide" Target="slide86.xml"/><Relationship Id="rId7" Type="http://schemas.openxmlformats.org/officeDocument/2006/relationships/slide" Target="slide88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" Target="slide96.xml"/><Relationship Id="rId3" Type="http://schemas.openxmlformats.org/officeDocument/2006/relationships/slide" Target="slide100.xml"/><Relationship Id="rId4" Type="http://schemas.openxmlformats.org/officeDocument/2006/relationships/slide" Target="slide100.xml"/><Relationship Id="rId5" Type="http://schemas.openxmlformats.org/officeDocument/2006/relationships/slide" Target="slide112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95.xml"/><Relationship Id="rId3" Type="http://schemas.openxmlformats.org/officeDocument/2006/relationships/slide" Target="slide9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文字处理系统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Word 2000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8954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hlinkClick r:id="rId1" action="ppaction://hlinksldjump"/>
              </a:rPr>
              <a:t>3.1 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Word 2000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概述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3.2 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文档的基本操作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3.3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文档的排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3.4 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表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3.5 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高级排版操作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3.6 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邮件合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914400"/>
            <a:ext cx="704880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状态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包含当前文档的页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总页数和栏号，光标所在行数和列数，以及当前文档的插入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改写状态。当系统处于排版方式下的编辑状态时，窗口底部的状态栏用于显示当前插入点的位置和命令提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Offic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助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助手”是一个独立于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窗口的小窗口，用于提供在线帮助信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015680" y="636264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4.2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表格的编辑与修改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2057400"/>
            <a:ext cx="7010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在表格中定位如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选定表格编辑对象见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增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删除行和列见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4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调整行高和列宽（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合并和拆分单元格（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表格边框和底纹（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6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套用表格格式（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6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绘制斜线表头（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6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表格属性（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362320" y="7621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3-2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使用键盘在表格中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219320" y="1676520"/>
            <a:ext cx="6705000" cy="4114440"/>
            <a:chOff x="1219320" y="1676520"/>
            <a:chExt cx="6705000" cy="4114440"/>
          </a:xfrm>
        </p:grpSpPr>
        <p:grpSp>
          <p:nvGrpSpPr>
            <p:cNvPr id="462" name=""/>
            <p:cNvGrpSpPr/>
            <p:nvPr/>
          </p:nvGrpSpPr>
          <p:grpSpPr>
            <a:xfrm>
              <a:off x="1227600" y="1681920"/>
              <a:ext cx="6687360" cy="4102560"/>
              <a:chOff x="1227600" y="1681920"/>
              <a:chExt cx="6687360" cy="41025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227600" y="1681920"/>
                <a:ext cx="2504520" cy="612000"/>
                <a:chOff x="1227600" y="1681920"/>
                <a:chExt cx="2504520" cy="6120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349640" y="1681920"/>
                  <a:ext cx="226080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按键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227600" y="1681920"/>
                  <a:ext cx="250452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3732480" y="1681920"/>
                <a:ext cx="4182480" cy="612000"/>
                <a:chOff x="3732480" y="1681920"/>
                <a:chExt cx="4182480" cy="6120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854520" y="1681920"/>
                  <a:ext cx="3938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移动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732480" y="1681920"/>
                  <a:ext cx="418248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1227600" y="2294280"/>
                <a:ext cx="2504520" cy="709200"/>
                <a:chOff x="1227600" y="2294280"/>
                <a:chExt cx="2504520" cy="7092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1349640" y="2294280"/>
                  <a:ext cx="226080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Ta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227600" y="2294280"/>
                  <a:ext cx="250452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732480" y="2294280"/>
                <a:ext cx="4182480" cy="709200"/>
                <a:chOff x="3732480" y="2294280"/>
                <a:chExt cx="4182480" cy="7092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3854520" y="2294280"/>
                  <a:ext cx="393804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移动到下一个单元格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732480" y="2294280"/>
                  <a:ext cx="418248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227600" y="3004200"/>
                <a:ext cx="2504520" cy="708840"/>
                <a:chOff x="1227600" y="3004200"/>
                <a:chExt cx="2504520" cy="7088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349640" y="3004200"/>
                  <a:ext cx="22608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Shift+Ta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227600" y="3004200"/>
                  <a:ext cx="250452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732480" y="3004200"/>
                <a:ext cx="4182480" cy="708840"/>
                <a:chOff x="3732480" y="3004200"/>
                <a:chExt cx="4182480" cy="7088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854520" y="3004200"/>
                  <a:ext cx="39380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移到前一个单元格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32480" y="3004200"/>
                  <a:ext cx="4182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1227600" y="3713400"/>
                <a:ext cx="2504520" cy="708840"/>
                <a:chOff x="1227600" y="3713400"/>
                <a:chExt cx="2504520" cy="70884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349640" y="3713400"/>
                  <a:ext cx="22608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Alt+Ho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227600" y="3713400"/>
                  <a:ext cx="250452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732480" y="3713400"/>
                <a:ext cx="4182480" cy="708840"/>
                <a:chOff x="3732480" y="3713400"/>
                <a:chExt cx="4182480" cy="708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854520" y="3713400"/>
                  <a:ext cx="39380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移到当前行的第一个单元格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732480" y="3713400"/>
                  <a:ext cx="41824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1227600" y="4422960"/>
                <a:ext cx="2504520" cy="1361520"/>
                <a:chOff x="1227600" y="4422960"/>
                <a:chExt cx="2504520" cy="13615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1349640" y="4422960"/>
                  <a:ext cx="226080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Alt+En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宋体"/>
                    </a:rPr>
                    <a:t>↑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宋体"/>
                    </a:rPr>
                    <a:t>↓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Alt+PageU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Alt+PageDow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227600" y="4422960"/>
                  <a:ext cx="2504520" cy="13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3732480" y="4422960"/>
                <a:ext cx="4182480" cy="1361520"/>
                <a:chOff x="3732480" y="4422960"/>
                <a:chExt cx="4182480" cy="13615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854520" y="4422960"/>
                  <a:ext cx="393804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移到当前行的最后一个单元格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移到上一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移到下一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移到当前列的第一个单元格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移到当前列的最后一个单元格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732480" y="4422960"/>
                  <a:ext cx="4182480" cy="13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"/>
            <p:cNvSpPr/>
            <p:nvPr/>
          </p:nvSpPr>
          <p:spPr>
            <a:xfrm>
              <a:off x="1219320" y="1676520"/>
              <a:ext cx="670500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35268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3-3  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选定表格编辑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04920" y="1114560"/>
            <a:ext cx="8381520" cy="5133600"/>
            <a:chOff x="304920" y="1114560"/>
            <a:chExt cx="8381520" cy="5133600"/>
          </a:xfrm>
        </p:grpSpPr>
        <p:grpSp>
          <p:nvGrpSpPr>
            <p:cNvPr id="496" name=""/>
            <p:cNvGrpSpPr/>
            <p:nvPr/>
          </p:nvGrpSpPr>
          <p:grpSpPr>
            <a:xfrm>
              <a:off x="312120" y="1119600"/>
              <a:ext cx="8365680" cy="5122800"/>
              <a:chOff x="312120" y="1119600"/>
              <a:chExt cx="8365680" cy="512280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12120" y="1119600"/>
                <a:ext cx="2233440" cy="567720"/>
                <a:chOff x="312120" y="1119600"/>
                <a:chExt cx="2233440" cy="5677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18320" y="1119600"/>
                  <a:ext cx="2021040" cy="56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选定区域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12120" y="1119600"/>
                  <a:ext cx="2233440" cy="56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545920" y="1119600"/>
                <a:ext cx="6131880" cy="567720"/>
                <a:chOff x="2545920" y="1119600"/>
                <a:chExt cx="6131880" cy="5677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652120" y="1119600"/>
                  <a:ext cx="5918760" cy="56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鼠标操作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45920" y="1119600"/>
                  <a:ext cx="6131880" cy="56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312120" y="1687680"/>
                <a:ext cx="2233440" cy="809280"/>
                <a:chOff x="312120" y="1687680"/>
                <a:chExt cx="2233440" cy="8092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18320" y="1687680"/>
                  <a:ext cx="202104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单元格中所有文字单元格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12120" y="1687680"/>
                  <a:ext cx="2233440" cy="80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545920" y="1687680"/>
                <a:ext cx="6131880" cy="809280"/>
                <a:chOff x="2545920" y="1687680"/>
                <a:chExt cx="6131880" cy="8092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652120" y="1687680"/>
                  <a:ext cx="591876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在单元格的左边缘处单击鼠标（即在单元格的左边框与文字之间）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在单元格中任何地方单击鼠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45920" y="1687680"/>
                  <a:ext cx="6131880" cy="80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12120" y="2497680"/>
                <a:ext cx="2233440" cy="657720"/>
                <a:chOff x="312120" y="2497680"/>
                <a:chExt cx="2233440" cy="6577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18320" y="2497680"/>
                  <a:ext cx="202104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一组相邻的单元格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12120" y="2497680"/>
                  <a:ext cx="223344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45920" y="2497680"/>
                <a:ext cx="6131880" cy="657720"/>
                <a:chOff x="2545920" y="2497680"/>
                <a:chExt cx="6131880" cy="6577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652120" y="2497680"/>
                  <a:ext cx="59187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单击并拖动鼠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45920" y="2497680"/>
                  <a:ext cx="613188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312120" y="3155760"/>
                <a:ext cx="2233440" cy="809280"/>
                <a:chOff x="312120" y="3155760"/>
                <a:chExt cx="2233440" cy="8092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18320" y="3155760"/>
                  <a:ext cx="202104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一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12120" y="3155760"/>
                  <a:ext cx="2233440" cy="80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545920" y="3155760"/>
                <a:ext cx="6131880" cy="809280"/>
                <a:chOff x="2545920" y="3155760"/>
                <a:chExt cx="6131880" cy="8092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652120" y="3155760"/>
                  <a:ext cx="591876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在文档中该行左页边距处单击鼠标，或在行中单击鼠标，然后选择“表格”菜单中的“选择”子菜单，然后选择“行”命令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45920" y="3155760"/>
                  <a:ext cx="6131880" cy="80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12120" y="3965400"/>
                <a:ext cx="2233440" cy="657720"/>
                <a:chOff x="312120" y="3965400"/>
                <a:chExt cx="2233440" cy="657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18320" y="3965400"/>
                  <a:ext cx="202104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多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12120" y="3965400"/>
                  <a:ext cx="223344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545920" y="3965400"/>
                <a:ext cx="6131880" cy="657720"/>
                <a:chOff x="2545920" y="3965400"/>
                <a:chExt cx="6131880" cy="657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652120" y="3965400"/>
                  <a:ext cx="59187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在文档左页边距处单击并拖动鼠标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45920" y="3965400"/>
                  <a:ext cx="613188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312120" y="4623840"/>
                <a:ext cx="2233440" cy="808920"/>
                <a:chOff x="312120" y="4623840"/>
                <a:chExt cx="2233440" cy="808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18320" y="4623840"/>
                  <a:ext cx="202104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一列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12120" y="4623840"/>
                  <a:ext cx="2233440" cy="80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2545920" y="4623840"/>
                <a:ext cx="6131880" cy="808920"/>
                <a:chOff x="2545920" y="4623840"/>
                <a:chExt cx="6131880" cy="808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2652120" y="4623840"/>
                  <a:ext cx="59187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按住</a:t>
                  </a: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Alt</a:t>
                  </a: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键然后在列中单击鼠标，或在列中单击鼠标，然后选择“表格”菜单中的“选择”子菜单，然后选择“列”命令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545920" y="4623840"/>
                  <a:ext cx="6131880" cy="80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120" y="5433120"/>
                <a:ext cx="2233440" cy="809280"/>
                <a:chOff x="312120" y="5433120"/>
                <a:chExt cx="2233440" cy="8092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18320" y="5433120"/>
                  <a:ext cx="202104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多列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12120" y="5433120"/>
                  <a:ext cx="2233440" cy="80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545920" y="5433120"/>
                <a:ext cx="6131880" cy="809280"/>
                <a:chOff x="2545920" y="5433120"/>
                <a:chExt cx="6131880" cy="8092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652120" y="5433120"/>
                  <a:ext cx="591876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按住</a:t>
                  </a: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Alt</a:t>
                  </a: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键然后拖动到要选定的各列，或将鼠标指向表格的顶端边框，然后拖动到要选定的各列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545920" y="5433120"/>
                  <a:ext cx="6131880" cy="80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"/>
            <p:cNvSpPr/>
            <p:nvPr/>
          </p:nvSpPr>
          <p:spPr>
            <a:xfrm>
              <a:off x="304920" y="1114560"/>
              <a:ext cx="8381520" cy="5133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81952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-4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表格编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80880" y="1387440"/>
            <a:ext cx="8457840" cy="4403520"/>
            <a:chOff x="380880" y="1387440"/>
            <a:chExt cx="8457840" cy="4403520"/>
          </a:xfrm>
        </p:grpSpPr>
        <p:grpSp>
          <p:nvGrpSpPr>
            <p:cNvPr id="542" name=""/>
            <p:cNvGrpSpPr/>
            <p:nvPr/>
          </p:nvGrpSpPr>
          <p:grpSpPr>
            <a:xfrm>
              <a:off x="387720" y="1392480"/>
              <a:ext cx="8442360" cy="4392720"/>
              <a:chOff x="387720" y="1392480"/>
              <a:chExt cx="8442360" cy="439272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387720" y="1392480"/>
                <a:ext cx="2197080" cy="552240"/>
                <a:chOff x="387720" y="1392480"/>
                <a:chExt cx="2197080" cy="55224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92840" y="1392480"/>
                  <a:ext cx="198684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操作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87720" y="1392480"/>
                  <a:ext cx="2197080" cy="55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2585160" y="1392480"/>
                <a:ext cx="1832760" cy="552240"/>
                <a:chOff x="2585160" y="1392480"/>
                <a:chExt cx="1832760" cy="5522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689560" y="1392480"/>
                  <a:ext cx="162360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“</a:t>
                  </a:r>
                  <a:r>
                    <a:rPr b="1" lang="zh-CN" sz="18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表格”中命令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585160" y="1392480"/>
                  <a:ext cx="1832760" cy="55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418280" y="1392480"/>
                <a:ext cx="4411800" cy="552240"/>
                <a:chOff x="4418280" y="1392480"/>
                <a:chExt cx="4411800" cy="5522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523400" y="1392480"/>
                  <a:ext cx="420156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“</a:t>
                  </a:r>
                  <a:r>
                    <a:rPr b="1" lang="zh-CN" sz="18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常用”工具栏中的按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18280" y="1392480"/>
                  <a:ext cx="4411800" cy="55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387720" y="1945080"/>
                <a:ext cx="2197080" cy="639720"/>
                <a:chOff x="387720" y="1945080"/>
                <a:chExt cx="2197080" cy="6397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92840" y="1945080"/>
                  <a:ext cx="1986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增加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87720" y="1945080"/>
                  <a:ext cx="219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2585160" y="1945080"/>
                <a:ext cx="1832760" cy="639720"/>
                <a:chOff x="2585160" y="1945080"/>
                <a:chExt cx="1832760" cy="63972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2689560" y="1945080"/>
                  <a:ext cx="1623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插入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585160" y="1945080"/>
                  <a:ext cx="1832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4418280" y="1945080"/>
                <a:ext cx="4411800" cy="639720"/>
                <a:chOff x="4418280" y="1945080"/>
                <a:chExt cx="4411800" cy="6397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4523400" y="1945080"/>
                  <a:ext cx="4201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“</a:t>
                  </a: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插入行”按钮（原“插入表格”按钮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18280" y="1945080"/>
                  <a:ext cx="4411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387720" y="2585520"/>
                <a:ext cx="2197080" cy="639360"/>
                <a:chOff x="387720" y="2585520"/>
                <a:chExt cx="2197080" cy="6393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92840" y="2585520"/>
                  <a:ext cx="19868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增加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87720" y="2585520"/>
                  <a:ext cx="21970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2585160" y="2585520"/>
                <a:ext cx="1832760" cy="639360"/>
                <a:chOff x="2585160" y="2585520"/>
                <a:chExt cx="1832760" cy="6393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689560" y="2585520"/>
                  <a:ext cx="16236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插入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585160" y="2585520"/>
                  <a:ext cx="18327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418280" y="2585520"/>
                <a:ext cx="4411800" cy="639360"/>
                <a:chOff x="4418280" y="2585520"/>
                <a:chExt cx="4411800" cy="6393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523400" y="2585520"/>
                  <a:ext cx="4201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“</a:t>
                  </a: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插入列”按钮（原“插入表格”按钮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418280" y="2585520"/>
                  <a:ext cx="44118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387720" y="3225240"/>
                <a:ext cx="2197080" cy="639360"/>
                <a:chOff x="387720" y="3225240"/>
                <a:chExt cx="2197080" cy="6393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492840" y="3225240"/>
                  <a:ext cx="19868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删除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87720" y="3225240"/>
                  <a:ext cx="21970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2585160" y="3225240"/>
                <a:ext cx="1832760" cy="639360"/>
                <a:chOff x="2585160" y="3225240"/>
                <a:chExt cx="1832760" cy="6393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689560" y="3225240"/>
                  <a:ext cx="16236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删除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585160" y="3225240"/>
                  <a:ext cx="18327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418280" y="3225240"/>
                <a:ext cx="4411800" cy="639360"/>
                <a:chOff x="4418280" y="3225240"/>
                <a:chExt cx="4411800" cy="6393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523400" y="3225240"/>
                  <a:ext cx="4201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“</a:t>
                  </a: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剪切”按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418280" y="3225240"/>
                  <a:ext cx="44118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387720" y="3865320"/>
                <a:ext cx="2197080" cy="639360"/>
                <a:chOff x="387720" y="3865320"/>
                <a:chExt cx="2197080" cy="63936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492840" y="3865320"/>
                  <a:ext cx="19868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删除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87720" y="3865320"/>
                  <a:ext cx="21970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2585160" y="3865320"/>
                <a:ext cx="1832760" cy="639360"/>
                <a:chOff x="2585160" y="3865320"/>
                <a:chExt cx="1832760" cy="6393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2689560" y="3865320"/>
                  <a:ext cx="16236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删除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85160" y="3865320"/>
                  <a:ext cx="18327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418280" y="3865320"/>
                <a:ext cx="4411800" cy="639360"/>
                <a:chOff x="4418280" y="3865320"/>
                <a:chExt cx="4411800" cy="6393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523400" y="3865320"/>
                  <a:ext cx="4201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“</a:t>
                  </a: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剪切”按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418280" y="3865320"/>
                  <a:ext cx="44118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387720" y="4505400"/>
                <a:ext cx="2197080" cy="639720"/>
                <a:chOff x="387720" y="4505400"/>
                <a:chExt cx="2197080" cy="63972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492840" y="4505400"/>
                  <a:ext cx="1986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增加单元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87720" y="4505400"/>
                  <a:ext cx="219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2585160" y="4505400"/>
                <a:ext cx="1832760" cy="639720"/>
                <a:chOff x="2585160" y="4505400"/>
                <a:chExt cx="1832760" cy="639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2689560" y="4505400"/>
                  <a:ext cx="1623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插入单元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85160" y="4505400"/>
                  <a:ext cx="1832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4418280" y="4505400"/>
                <a:ext cx="4411800" cy="639720"/>
                <a:chOff x="4418280" y="4505400"/>
                <a:chExt cx="4411800" cy="6397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4523400" y="4505400"/>
                  <a:ext cx="4201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“</a:t>
                  </a: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插入单元格”按钮（原“插入表格”按钮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418280" y="4505400"/>
                  <a:ext cx="4411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387720" y="5145840"/>
                <a:ext cx="2197080" cy="639360"/>
                <a:chOff x="387720" y="5145840"/>
                <a:chExt cx="2197080" cy="6393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2840" y="5145840"/>
                  <a:ext cx="19868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删除单元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87720" y="5145840"/>
                  <a:ext cx="21970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2585160" y="5145840"/>
                <a:ext cx="1832760" cy="639360"/>
                <a:chOff x="2585160" y="5145840"/>
                <a:chExt cx="1832760" cy="6393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2689560" y="5145840"/>
                  <a:ext cx="16236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删除单元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85160" y="5145840"/>
                  <a:ext cx="18327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18280" y="5145840"/>
                <a:ext cx="4411800" cy="639360"/>
                <a:chOff x="4418280" y="5145840"/>
                <a:chExt cx="4411800" cy="6393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523400" y="5145840"/>
                  <a:ext cx="42015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3300"/>
                      </a:solidFill>
                      <a:latin typeface="Times New Roman"/>
                    </a:rPr>
                    <a:t>无按钮（“剪切”按钮只能删除单元格的内容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18280" y="5145840"/>
                  <a:ext cx="441180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6" name=""/>
            <p:cNvSpPr/>
            <p:nvPr/>
          </p:nvSpPr>
          <p:spPr>
            <a:xfrm>
              <a:off x="380880" y="1387440"/>
              <a:ext cx="8457840" cy="4403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47652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2895480" y="1133640"/>
            <a:ext cx="3962520" cy="38750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304812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4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”选项卡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08636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2286000" y="1916280"/>
            <a:ext cx="3809880" cy="302544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98108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5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拆分单元格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1337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14600" y="5486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6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和边框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0" y="1820880"/>
            <a:ext cx="9144000" cy="3218040"/>
            <a:chOff x="0" y="1820880"/>
            <a:chExt cx="9144000" cy="3218040"/>
          </a:xfrm>
        </p:grpSpPr>
        <p:sp>
          <p:nvSpPr>
            <p:cNvPr id="616" name=""/>
            <p:cNvSpPr/>
            <p:nvPr/>
          </p:nvSpPr>
          <p:spPr>
            <a:xfrm>
              <a:off x="0" y="4030560"/>
              <a:ext cx="6400800" cy="3988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绘制表格笔　线框　线条粗细　边框类型　合并单元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0" y="1820880"/>
              <a:ext cx="9144000" cy="3218040"/>
              <a:chOff x="0" y="1820880"/>
              <a:chExt cx="9144000" cy="32180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2430360"/>
                <a:ext cx="3657600" cy="398880"/>
              </a:xfrm>
              <a:prstGeom prst="rect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擦除　 边框颜色　　底纹颜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343400" y="4640040"/>
                <a:ext cx="4038480" cy="398880"/>
              </a:xfrm>
              <a:prstGeom prst="rect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平均分布各行、各列　自动套用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14800" y="2430360"/>
                <a:ext cx="5029200" cy="398880"/>
              </a:xfrm>
              <a:prstGeom prst="rect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拆分单元格　对齐　显示虚框　升序  降序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29000" y="1820880"/>
                <a:ext cx="1501920" cy="398880"/>
              </a:xfrm>
              <a:prstGeom prst="rect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插入表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305920" y="4182840"/>
                <a:ext cx="838080" cy="398880"/>
              </a:xfrm>
              <a:prstGeom prst="rect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自动求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80880" y="2125440"/>
                <a:ext cx="8382240" cy="2590200"/>
                <a:chOff x="380880" y="2125440"/>
                <a:chExt cx="8382240" cy="2590200"/>
              </a:xfrm>
            </p:grpSpPr>
            <p:pic>
              <p:nvPicPr>
                <p:cNvPr id="624" name="表格与边框" descr=""/>
                <p:cNvPicPr/>
                <p:nvPr/>
              </p:nvPicPr>
              <p:blipFill>
                <a:blip r:embed="rId1">
                  <a:grayscl/>
                </a:blip>
                <a:stretch/>
              </p:blipFill>
              <p:spPr>
                <a:xfrm>
                  <a:off x="380880" y="3191760"/>
                  <a:ext cx="8382240" cy="441000"/>
                </a:xfrm>
                <a:prstGeom prst="rect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</p:pic>
            <p:sp>
              <p:nvSpPr>
                <p:cNvPr id="625" name=""/>
                <p:cNvSpPr/>
                <p:nvPr/>
              </p:nvSpPr>
              <p:spPr>
                <a:xfrm>
                  <a:off x="380880" y="2734560"/>
                  <a:ext cx="228600" cy="5331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38080" y="3573000"/>
                  <a:ext cx="0" cy="53280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523880" y="2734560"/>
                  <a:ext cx="2438640" cy="5331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200400" y="2734560"/>
                  <a:ext cx="1447920" cy="5331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733920" y="2125440"/>
                  <a:ext cx="1371600" cy="12189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257800" y="2734560"/>
                  <a:ext cx="609480" cy="6094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095880" y="2734560"/>
                  <a:ext cx="0" cy="5331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010280" y="2734560"/>
                  <a:ext cx="533520" cy="6094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7924680" y="2734560"/>
                  <a:ext cx="76320" cy="5331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>
                  <a:off x="8153280" y="2734560"/>
                  <a:ext cx="457200" cy="5331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905120" y="3496680"/>
                  <a:ext cx="0" cy="6091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2895120" y="3420360"/>
                  <a:ext cx="304920" cy="7617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267080" y="3496680"/>
                  <a:ext cx="0" cy="6091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486400" y="3496680"/>
                  <a:ext cx="0" cy="6091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534520" y="3573000"/>
                  <a:ext cx="0" cy="6854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5562360" y="3648960"/>
                  <a:ext cx="1066680" cy="10666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>
                  <a:off x="6629040" y="3573000"/>
                  <a:ext cx="304920" cy="10663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315200" y="3496680"/>
                  <a:ext cx="0" cy="12189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3764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95560" y="1731960"/>
            <a:ext cx="4952880" cy="33940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24004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7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底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3098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2057400" y="1596960"/>
            <a:ext cx="5029200" cy="36622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740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8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自动套用格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.2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文档的基本操作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宋体"/>
                <a:hlinkClick r:id="rId1" action="ppaction://hlinksldjump"/>
              </a:rPr>
              <a:t>3.2.1   新建文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宋体"/>
                <a:hlinkClick r:id="rId2" action="ppaction://hlinksldjump"/>
              </a:rPr>
              <a:t>3.2.2   文档输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宋体"/>
                <a:hlinkClick r:id="rId3" action="ppaction://hlinksldjump"/>
              </a:rPr>
              <a:t>3.2.3   保存文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宋体"/>
                <a:hlinkClick r:id="rId4" action="ppaction://hlinksldjump"/>
              </a:rPr>
              <a:t>3.2.4   文档的打开与关闭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宋体"/>
                <a:hlinkClick r:id="rId5" action="ppaction://hlinksldjump"/>
              </a:rPr>
              <a:t>3.2.5   文档的编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宋体"/>
                <a:hlinkClick r:id="rId6" action="ppaction://hlinksldjump"/>
              </a:rPr>
              <a:t>3.2.6   文档显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7" action="ppaction://hlinksldjump"/>
          </p:cNvPr>
          <p:cNvSpPr/>
          <p:nvPr/>
        </p:nvSpPr>
        <p:spPr>
          <a:xfrm>
            <a:off x="7015680" y="636264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返回本章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9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316692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171880" y="2021040"/>
            <a:ext cx="4800600" cy="28144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05740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9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斜线表头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3577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743200" y="1785960"/>
            <a:ext cx="3657600" cy="32846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2057400" y="5257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0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属性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3.4.3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由表生成图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62120" y="1828800"/>
            <a:ext cx="7467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定表格中要生成图的全部或部分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“插入”菜单中选择“图片”命令，从联级菜单中选择“图表”命令，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icrosoft Graph 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作环境，并显示一个缺省图表和数据表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7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对图表满意后按任意键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把生成的图表插入到文档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79576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2209680" y="1724040"/>
            <a:ext cx="4724640" cy="340848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781360" y="541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表生成图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.5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高级排版操作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90640" y="2057400"/>
            <a:ext cx="5562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1" action="ppaction://hlinksldjump"/>
              </a:rPr>
              <a:t>3.5.1    图形操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2" action="ppaction://hlinksldjump"/>
              </a:rPr>
              <a:t>3.5.2   绘制图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3" action="ppaction://hlinksldjump"/>
              </a:rPr>
              <a:t>3.5.3   艺术字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4" action="ppaction://hlinksldjump"/>
              </a:rPr>
              <a:t>3.5.4   文本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5" action="ppaction://hlinksldjump"/>
              </a:rPr>
              <a:t>3.5.5   公式编辑器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6" action="ppaction://hlinksldjump"/>
          </p:cNvPr>
          <p:cNvSpPr/>
          <p:nvPr/>
        </p:nvSpPr>
        <p:spPr>
          <a:xfrm>
            <a:off x="7015680" y="636264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7" action="ppaction://hlinksldjump"/>
              </a:rPr>
              <a:t>返回本章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3.5.1   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图形操作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0" y="57150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85760" y="2527200"/>
            <a:ext cx="6972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剪贴图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7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图形文件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7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图片格式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7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7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1050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09680" y="1600200"/>
            <a:ext cx="4438800" cy="32716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1905120" y="5410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2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剪贴画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35268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71800" y="5257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3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剪辑画”示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09480" y="1798560"/>
            <a:ext cx="7924680" cy="3260880"/>
            <a:chOff x="609480" y="1798560"/>
            <a:chExt cx="7924680" cy="3260880"/>
          </a:xfrm>
        </p:grpSpPr>
        <p:pic>
          <p:nvPicPr>
            <p:cNvPr id="677" name="剪贴画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609480" y="1798560"/>
              <a:ext cx="5029200" cy="326088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678" name=""/>
            <p:cNvSpPr/>
            <p:nvPr/>
          </p:nvSpPr>
          <p:spPr>
            <a:xfrm>
              <a:off x="6933960" y="2059200"/>
              <a:ext cx="1600200" cy="295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插入剪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预览剪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将剪辑添加到“收藏夹”或其他类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查找类似剪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0240" y="4345200"/>
              <a:ext cx="22860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647960" y="2363400"/>
              <a:ext cx="2286000" cy="3812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4647960" y="2744640"/>
              <a:ext cx="2286000" cy="5331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4800240" y="3430800"/>
              <a:ext cx="2286000" cy="3808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27672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19240" y="1739880"/>
            <a:ext cx="5105520" cy="33782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981080" y="5410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4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图片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92428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14600" y="5105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5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片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762120" y="358128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28600" y="1828800"/>
            <a:ext cx="8610480" cy="2837160"/>
            <a:chOff x="228600" y="1828800"/>
            <a:chExt cx="8610480" cy="2837160"/>
          </a:xfrm>
        </p:grpSpPr>
        <p:sp>
          <p:nvSpPr>
            <p:cNvPr id="690" name=""/>
            <p:cNvSpPr/>
            <p:nvPr/>
          </p:nvSpPr>
          <p:spPr>
            <a:xfrm>
              <a:off x="762120" y="1828800"/>
              <a:ext cx="8076960" cy="39888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图片控制      降低对比度　降低亮度　线型　设置图片格式　重设图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8600" y="4267080"/>
              <a:ext cx="7924680" cy="39888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插入图片　增加对比度　增加亮度　裁剪　文字环绕　设置透明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685800" y="2133720"/>
              <a:ext cx="7924680" cy="2209680"/>
              <a:chOff x="685800" y="2133720"/>
              <a:chExt cx="7924680" cy="2209680"/>
            </a:xfrm>
          </p:grpSpPr>
          <p:pic>
            <p:nvPicPr>
              <p:cNvPr id="693" name="图片" descr=""/>
              <p:cNvPicPr/>
              <p:nvPr/>
            </p:nvPicPr>
            <p:blipFill>
              <a:blip r:embed="rId1">
                <a:grayscl/>
              </a:blip>
              <a:stretch/>
            </p:blipFill>
            <p:spPr>
              <a:xfrm>
                <a:off x="685800" y="2666880"/>
                <a:ext cx="7924680" cy="1146240"/>
              </a:xfrm>
              <a:prstGeom prst="rect">
                <a:avLst/>
              </a:prstGeom>
              <a:ln w="9360">
                <a:solidFill>
                  <a:srgbClr val="ff9900"/>
                </a:solidFill>
                <a:miter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1523880" y="2133720"/>
                <a:ext cx="381240" cy="12189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2133720" y="3581280"/>
                <a:ext cx="380880" cy="7621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819520" y="2133720"/>
                <a:ext cx="228600" cy="12189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809880" y="3581280"/>
                <a:ext cx="0" cy="7621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343400" y="2209680"/>
                <a:ext cx="0" cy="9907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4800240" y="3581280"/>
                <a:ext cx="228600" cy="7621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10080" y="2209680"/>
                <a:ext cx="228600" cy="11430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5638680" y="3581280"/>
                <a:ext cx="609840" cy="7621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858000" y="2286000"/>
                <a:ext cx="0" cy="1066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7162560" y="3505320"/>
                <a:ext cx="228600" cy="8380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77320" y="2133720"/>
                <a:ext cx="0" cy="12189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Arial"/>
              </a:rPr>
              <a:t>3.2.1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新建文档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2286000"/>
            <a:ext cx="556272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建立空白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使用标准模板建立新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选择模板建立新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使用向导创建新文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353376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784520"/>
            <a:ext cx="4495680" cy="332100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1981080" y="5410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6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图片格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5.2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绘制图形</a:t>
            </a:r>
            <a:br>
              <a:rPr sz="3200"/>
            </a:b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90920" y="5410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7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绘图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52280" y="1752480"/>
            <a:ext cx="8839080" cy="3218400"/>
            <a:chOff x="152280" y="1752480"/>
            <a:chExt cx="8839080" cy="3218400"/>
          </a:xfrm>
        </p:grpSpPr>
        <p:sp>
          <p:nvSpPr>
            <p:cNvPr id="714" name=""/>
            <p:cNvSpPr/>
            <p:nvPr/>
          </p:nvSpPr>
          <p:spPr>
            <a:xfrm>
              <a:off x="152280" y="1752480"/>
              <a:ext cx="8534160" cy="3988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选择对象       直线      矩形   文本框  插入艺术字  填充颜色  字体颜色    阴影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4560" y="3886200"/>
              <a:ext cx="8229600" cy="3988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自由旋转        箭头     椭圆         插入剪贴板   线条颜色    线型   箭头样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85640" y="4572000"/>
              <a:ext cx="6705720" cy="39888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                 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竖排文本框                  虚线线型              三维效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990000" y="3200400"/>
              <a:ext cx="762120" cy="68580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304560" y="2057400"/>
              <a:ext cx="8277120" cy="2590920"/>
              <a:chOff x="304560" y="2057400"/>
              <a:chExt cx="8277120" cy="2590920"/>
            </a:xfrm>
          </p:grpSpPr>
          <p:pic>
            <p:nvPicPr>
              <p:cNvPr id="719" name="绘图工具栏" descr=""/>
              <p:cNvPicPr/>
              <p:nvPr/>
            </p:nvPicPr>
            <p:blipFill>
              <a:blip r:embed="rId1">
                <a:grayscl/>
              </a:blip>
              <a:stretch/>
            </p:blipFill>
            <p:spPr>
              <a:xfrm>
                <a:off x="304560" y="2666880"/>
                <a:ext cx="8277120" cy="692280"/>
              </a:xfrm>
              <a:prstGeom prst="rect">
                <a:avLst/>
              </a:prstGeom>
              <a:ln w="9360">
                <a:solidFill>
                  <a:srgbClr val="ffcc00"/>
                </a:solidFill>
                <a:miter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914040" y="2057400"/>
                <a:ext cx="533520" cy="106668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057040" y="2057400"/>
                <a:ext cx="1067040" cy="9144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047760" y="2057400"/>
                <a:ext cx="838080" cy="9907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809880" y="2057400"/>
                <a:ext cx="685800" cy="9144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028840" y="2133720"/>
                <a:ext cx="0" cy="9144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8000280" y="2133720"/>
                <a:ext cx="304920" cy="9144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5867280" y="2057400"/>
                <a:ext cx="304560" cy="9144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6705000" y="2057400"/>
                <a:ext cx="609480" cy="106668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2209680" y="3200400"/>
                <a:ext cx="1371600" cy="6858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276360" y="3200400"/>
                <a:ext cx="914400" cy="6858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10080" y="3200400"/>
                <a:ext cx="304560" cy="7621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933600" y="3200400"/>
                <a:ext cx="152280" cy="7621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772040" y="3276720"/>
                <a:ext cx="0" cy="76176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724280" y="3276720"/>
                <a:ext cx="0" cy="13716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705000" y="3276720"/>
                <a:ext cx="762120" cy="13716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381880" y="3200400"/>
                <a:ext cx="0" cy="14479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200240" y="2514600"/>
            <a:ext cx="6743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绘制自选图形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向自选图形中添加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自选图形格式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7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8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93832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自选图形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62040" y="2071800"/>
            <a:ext cx="6019920" cy="25621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1943280" y="5181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8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选图形”菜单和子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337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2514600" y="1862280"/>
            <a:ext cx="4052880" cy="27604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866960" y="5105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9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自选图形格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401004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rcRect l="21212" t="36724" r="51547" b="30929"/>
          <a:stretch/>
        </p:blipFill>
        <p:spPr>
          <a:xfrm>
            <a:off x="2743200" y="2017800"/>
            <a:ext cx="2971800" cy="26686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981080" y="4952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0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叠放次序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438280" y="457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1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由旋转”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100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自由旋转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2397240"/>
            <a:ext cx="3424320" cy="125892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6553080" y="3117960"/>
            <a:ext cx="1209960" cy="468360"/>
          </a:xfrm>
          <a:prstGeom prst="wedgeRectCallout">
            <a:avLst>
              <a:gd name="adj1" fmla="val -163777"/>
              <a:gd name="adj2" fmla="val -14017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旋转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47184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33720" y="2057400"/>
            <a:ext cx="4147920" cy="31240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20968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2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艺术字”库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5.3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艺术字的使用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438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09680" y="1838160"/>
            <a:ext cx="4191120" cy="30290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43280" y="5105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“艺术字文字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87640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0504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4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艺术字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57200" y="1798560"/>
            <a:ext cx="8229600" cy="3111480"/>
            <a:chOff x="457200" y="1798560"/>
            <a:chExt cx="8229600" cy="3111480"/>
          </a:xfrm>
        </p:grpSpPr>
        <p:pic>
          <p:nvPicPr>
            <p:cNvPr id="762" name="艺术字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371600" y="2865240"/>
              <a:ext cx="6705720" cy="7905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763" name=""/>
            <p:cNvSpPr/>
            <p:nvPr/>
          </p:nvSpPr>
          <p:spPr>
            <a:xfrm>
              <a:off x="457200" y="1798560"/>
              <a:ext cx="8077320" cy="7038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插入艺术字    艺术字库    设置艺术字格式  自由旋转　艺术字字母高度　                                                                                     艺术字字符间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67040" y="4084560"/>
              <a:ext cx="7619760" cy="8254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艺术字形状　文字环绕　　艺术字字母高度相同　　                                                                艺术对齐方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71600" y="2103480"/>
              <a:ext cx="457200" cy="121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67240" y="2103480"/>
              <a:ext cx="1371600" cy="1295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10240" y="2179440"/>
              <a:ext cx="685800" cy="1067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5410440" y="2103480"/>
              <a:ext cx="380880" cy="1143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400440" y="2103480"/>
              <a:ext cx="762120" cy="1143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67840" y="2332080"/>
              <a:ext cx="228600" cy="99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239240" y="3551040"/>
              <a:ext cx="76176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4419720" y="3551040"/>
              <a:ext cx="1447920" cy="60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2667240" y="3551040"/>
              <a:ext cx="2286000" cy="60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2040" y="3551040"/>
              <a:ext cx="0" cy="60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9092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1641600"/>
            <a:ext cx="5486400" cy="3573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81080" y="5334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对话框中的“常用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7621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．建立空白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881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艺术字示例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267080" cy="304164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590920" y="5105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5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艺术字”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5.4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文本框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2133720"/>
            <a:ext cx="5334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创建文本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文本框的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文本框之间创建链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文本框转换为图文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666880" y="4419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6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本框选中状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26744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4067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7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本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143000" y="1752480"/>
            <a:ext cx="7162560" cy="2517120"/>
            <a:chOff x="1143000" y="1752480"/>
            <a:chExt cx="7162560" cy="2517120"/>
          </a:xfrm>
        </p:grpSpPr>
        <p:pic>
          <p:nvPicPr>
            <p:cNvPr id="787" name="文本框链接2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143000" y="1752480"/>
              <a:ext cx="4299480" cy="1782720"/>
            </a:xfrm>
            <a:prstGeom prst="rect">
              <a:avLst/>
            </a:prstGeom>
            <a:ln w="9360">
              <a:solidFill>
                <a:srgbClr val="808000"/>
              </a:solidFill>
              <a:miter/>
            </a:ln>
          </p:spPr>
        </p:pic>
        <p:sp>
          <p:nvSpPr>
            <p:cNvPr id="788" name=""/>
            <p:cNvSpPr/>
            <p:nvPr/>
          </p:nvSpPr>
          <p:spPr>
            <a:xfrm>
              <a:off x="6473520" y="2438280"/>
              <a:ext cx="158220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下一文本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43000" y="3809880"/>
              <a:ext cx="71625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创建文本框链接  断开前向链接    前一文本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09000" y="3048120"/>
              <a:ext cx="666360" cy="91440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08360" y="3048120"/>
              <a:ext cx="1832400" cy="83808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91240" y="3048120"/>
              <a:ext cx="2831760" cy="91440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07440" y="2819520"/>
              <a:ext cx="1666080" cy="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476440" y="5334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8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本框之间链接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585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文本框链接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95560" y="1571760"/>
            <a:ext cx="49528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689200" y="4191120"/>
            <a:ext cx="302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5181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9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文框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9052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2133720" y="1924200"/>
            <a:ext cx="4876560" cy="2855880"/>
          </a:xfrm>
          <a:prstGeom prst="rect">
            <a:avLst/>
          </a:prstGeom>
          <a:ln w="0">
            <a:noFill/>
          </a:ln>
        </p:spPr>
      </p:pic>
      <p:sp>
        <p:nvSpPr>
          <p:cNvPr id="801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5.5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公式编辑器的使用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76240" y="2133720"/>
            <a:ext cx="73915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插入点置于希望放置公式的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插入”菜单选择“对象”命令，显示“对象”对话框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对话框中选择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0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单击“确定”按钮。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式状态，显示“公式”工具栏和菜单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9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29289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1752480" y="1619280"/>
            <a:ext cx="5639040" cy="346536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255276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90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63844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247840" y="1909800"/>
            <a:ext cx="4648320" cy="288432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22860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9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式编辑器的屏幕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12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.6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邮件合并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1．邮件合并的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2．建立邮件合并主文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3．创建数据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4．在主文档中插入合并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5．将数据合并到主文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rId6" action="ppaction://hlinksldjump"/>
          </p:cNvPr>
          <p:cNvSpPr/>
          <p:nvPr/>
        </p:nvSpPr>
        <p:spPr>
          <a:xfrm>
            <a:off x="7015680" y="636264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7" action="ppaction://hlinksldjump"/>
              </a:rPr>
              <a:t>返回本章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624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3720" y="1671480"/>
            <a:ext cx="4876560" cy="3513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668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7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760" y="838080"/>
            <a:ext cx="31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．使用标准模板建立新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．邮件合并的过程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47640" y="184644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文档——包含需要分发的文字以及控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特定位置插入特定数据的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源——包含姓名、地址以及其他需要插入到文档中的信息。可以通过“邮件合并帮助器”创建新的数据源，也可以使用现有文件中的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进行邮件合并操作时，上述两种文件将一起生成合并文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rId1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838080" y="1752480"/>
            <a:ext cx="701064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新建一个新文档或打开一个现有文档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在“工具”菜单中选择“邮件合并”命令，打开“邮件合并帮助器”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-9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单击“主文档”下的“创建”按钮，选择要创建的文档类型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从列表中选择“套用信函”，会出现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-9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的“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Microsoft Word”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对话框，再单击“活动窗口”按钮。活动文档成为邮件合并的主文档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．建立邮件合并主文档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41964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邮件合并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52760" y="1541520"/>
            <a:ext cx="4038480" cy="362268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2171880" y="533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92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邮件合并帮助器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83860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2666880"/>
            <a:ext cx="6000480" cy="153360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286000" y="4724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93   “Microsoft  Word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838080" y="1066680"/>
            <a:ext cx="373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95360" y="1828800"/>
            <a:ext cx="81532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选择“工具”菜单中的“邮件合并”命令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单击“数据源”下的“获取数据”，并选择 “建立数据源”命令（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-9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域建立完成后，单击“确定”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单击“编辑数据源”，显示“数据表单”对话框（见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-9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键可方便地在每个数据域中输入数据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．创建数据源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43836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362320" y="1739880"/>
            <a:ext cx="3724200" cy="322416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2209680" y="52578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94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数据源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43836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09680" y="1905120"/>
            <a:ext cx="4191120" cy="276516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23623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95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表单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43000" y="2057400"/>
            <a:ext cx="68580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选择“工具”菜单的“邮件合并”命令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单击“主文档”下的“编辑”按钮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在主文档中输入不变的公用部分内容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在“邮件合并”工具栏条上单击“插入合并域”按钮，显示“插入合并域”列表框，从列表框中选择域名并单击域名，文档中将出现双尖括号括住的合并域（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-9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．在主文档中插入合并域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270504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1447920" y="1747800"/>
            <a:ext cx="5448240" cy="321012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523880" y="5257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-96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套用信函中插入“姓名”、“职称”和“系”的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600200" y="990720"/>
            <a:ext cx="495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5480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738440"/>
            <a:ext cx="4919760" cy="322884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371600" y="5257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97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套用信函合并文档”演示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．将数据合并到主文档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55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624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90680" y="1785960"/>
            <a:ext cx="4562640" cy="3286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95560" y="5257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8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模板建立新文档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6360" y="76212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．选择模板建立新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>
            <a:hlinkClick r:id="rId1" action="ppaction://hlinksldjump"/>
          </p:cNvPr>
          <p:cNvSpPr/>
          <p:nvPr/>
        </p:nvSpPr>
        <p:spPr>
          <a:xfrm>
            <a:off x="7015680" y="636264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章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6480" y="658800"/>
            <a:ext cx="71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HANK YOU VERY MUCH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萬用卡03" descr=""/>
          <p:cNvPicPr/>
          <p:nvPr/>
        </p:nvPicPr>
        <p:blipFill>
          <a:blip r:embed="rId3"/>
          <a:stretch/>
        </p:blipFill>
        <p:spPr>
          <a:xfrm>
            <a:off x="3505320" y="1905120"/>
            <a:ext cx="3697200" cy="36687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461520" y="1981080"/>
            <a:ext cx="200880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章到此结束，谢谢您的光临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endshow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退    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2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使用向导创建新文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8280" y="1860480"/>
            <a:ext cx="4267440" cy="3137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0640" y="5257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9   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创建向导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2.2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文档输入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2041560"/>
            <a:ext cx="4686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中文和英文的输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文本录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插入日期和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插入特殊符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35268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95560" y="1668600"/>
            <a:ext cx="4952880" cy="3520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62320" y="5257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0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期和时间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1924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843880" cy="341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81360" y="5257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1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符号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.1    Word 20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6629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  <a:hlinkClick r:id="rId1" action="ppaction://hlinksldjump"/>
              </a:rPr>
              <a:t>3.1.1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  <a:hlinkClick r:id="rId2" action="ppaction://hlinksldjump"/>
              </a:rPr>
              <a:t>Word 2000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3" action="ppaction://hlinksldjump"/>
              </a:rPr>
              <a:t>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  <a:hlinkClick r:id="rId4" action="ppaction://hlinksldjump"/>
              </a:rPr>
              <a:t>3.1.2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5" action="ppaction://hlinksldjump"/>
              </a:rPr>
              <a:t>启动和退出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  <a:hlinkClick r:id="rId6" action="ppaction://hlinksldjump"/>
              </a:rPr>
              <a:t>Word 2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  <a:hlinkClick r:id="rId7" action="ppaction://hlinksldjump"/>
              </a:rPr>
              <a:t>3.1.3    Word 2000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8" action="ppaction://hlinksldjump"/>
              </a:rPr>
              <a:t>的窗口组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7015680" y="639612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10" action="ppaction://hlinksldjump"/>
              </a:rPr>
              <a:t>返回本章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11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2416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2.3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保存文档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205740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保存新建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Wor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文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保存已存在的文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存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自动保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2404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44640" y="1708200"/>
            <a:ext cx="5452920" cy="3440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092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2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存为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718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4724280" cy="296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71880" y="4724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3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存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6232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81440" y="1714680"/>
            <a:ext cx="337968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03680" y="489744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32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3-14  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保存选项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53341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4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存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1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2.4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文档的打开与关闭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14680" y="2527200"/>
            <a:ext cx="5715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打开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打开最近使用的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打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625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文件菜单3－9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2684520" cy="3524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74720" y="1995480"/>
            <a:ext cx="91188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5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开最近使用的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6712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06800" y="1871640"/>
            <a:ext cx="4728960" cy="311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62320" y="5181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6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档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4840" y="2209680"/>
            <a:ext cx="6934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“文件”菜单中执行“退出”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文档编辑窗右上角的关闭（“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）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双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rd 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档窗口菜单栏左面控制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8380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关闭文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2.5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文档的编辑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7920" y="1828800"/>
            <a:ext cx="4953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文本的插入与删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选择文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移动文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制文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撤消和重复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查找与替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自动更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拼写检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76520" y="1981080"/>
            <a:ext cx="5790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插入状态与改写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字符插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文本插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删除文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文本的插入与删除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1.1    Word 20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的功能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812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文件管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编辑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版面设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表格处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图形处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制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7015680" y="636264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213372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鼠标选取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定单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定图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定句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取一行文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选择文本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57480" y="2819520"/>
            <a:ext cx="1967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取一段文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取多行文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取整个文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取一块矩形文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用键盘选取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6095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3-1   Word 2000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常用键盘选取操作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1828800"/>
            <a:ext cx="8686440" cy="3809160"/>
            <a:chOff x="228600" y="1828800"/>
            <a:chExt cx="8686440" cy="3809160"/>
          </a:xfrm>
        </p:grpSpPr>
        <p:grpSp>
          <p:nvGrpSpPr>
            <p:cNvPr id="144" name=""/>
            <p:cNvGrpSpPr/>
            <p:nvPr/>
          </p:nvGrpSpPr>
          <p:grpSpPr>
            <a:xfrm>
              <a:off x="235800" y="1838520"/>
              <a:ext cx="8670960" cy="3787920"/>
              <a:chOff x="235800" y="1838520"/>
              <a:chExt cx="8670960" cy="37879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235800" y="1838520"/>
                <a:ext cx="2004840" cy="1084680"/>
                <a:chOff x="235800" y="1838520"/>
                <a:chExt cx="2004840" cy="10846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42360" y="1838520"/>
                  <a:ext cx="1791000" cy="10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40000"/>
                    </a:lnSpc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按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键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40000"/>
                    </a:lnSpc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35800" y="1838520"/>
                  <a:ext cx="2004840" cy="108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241000" y="1838520"/>
                <a:ext cx="2381760" cy="1084680"/>
                <a:chOff x="2241000" y="1838520"/>
                <a:chExt cx="2381760" cy="10846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347560" y="1838520"/>
                  <a:ext cx="2168640" cy="10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40000"/>
                    </a:lnSpc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功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能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40000"/>
                    </a:lnSpc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241000" y="1838520"/>
                  <a:ext cx="2381760" cy="108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623120" y="1838520"/>
                <a:ext cx="2000160" cy="1084680"/>
                <a:chOff x="4623120" y="1838520"/>
                <a:chExt cx="2000160" cy="10846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729680" y="1838520"/>
                  <a:ext cx="1786320" cy="10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40000"/>
                    </a:lnSpc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按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键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40000"/>
                    </a:lnSpc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23120" y="1838520"/>
                  <a:ext cx="2000160" cy="108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624000" y="1838520"/>
                <a:ext cx="2282760" cy="1084680"/>
                <a:chOff x="6624000" y="1838520"/>
                <a:chExt cx="2282760" cy="1084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730200" y="1838520"/>
                  <a:ext cx="2069640" cy="10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40000"/>
                    </a:lnSpc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功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Arial"/>
                      <a:ea typeface="黑体"/>
                    </a:rPr>
                    <a:t>能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40000"/>
                    </a:lnSpc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624000" y="1838520"/>
                  <a:ext cx="2282760" cy="108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35800" y="2923920"/>
                <a:ext cx="2004840" cy="2702520"/>
                <a:chOff x="235800" y="2923920"/>
                <a:chExt cx="2004840" cy="2702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42360" y="2923920"/>
                  <a:ext cx="1791000" cy="270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宋体"/>
                    </a:rPr>
                    <a:t>→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宋体"/>
                    </a:rPr>
                    <a:t>↑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Home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PageUp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Ctrl+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宋体"/>
                    </a:rPr>
                    <a:t>→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Ctrl+</a:t>
                  </a: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Ho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5800" y="2923920"/>
                  <a:ext cx="2004840" cy="270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241000" y="2923920"/>
                <a:ext cx="2381760" cy="2702520"/>
                <a:chOff x="2241000" y="2923920"/>
                <a:chExt cx="2381760" cy="27025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347560" y="2923920"/>
                  <a:ext cx="2168640" cy="270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右选取一个字符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选取上一行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选取到当前行头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选取上一屏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右选取一个字或单词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选取到文档开头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241000" y="2923920"/>
                  <a:ext cx="2381760" cy="270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623120" y="2923920"/>
                <a:ext cx="2000160" cy="2702520"/>
                <a:chOff x="4623120" y="2923920"/>
                <a:chExt cx="2000160" cy="27025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729680" y="2923920"/>
                  <a:ext cx="1786320" cy="270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宋体"/>
                    </a:rPr>
                    <a:t>←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宋体"/>
                    </a:rPr>
                    <a:t>↓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End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PageDown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Ctrl+</a:t>
                  </a:r>
                  <a:r>
                    <a:rPr b="1" lang="zh-CN" sz="1700" spc="-1" strike="noStrike">
                      <a:solidFill>
                        <a:srgbClr val="ff3300"/>
                      </a:solidFill>
                      <a:latin typeface="宋体"/>
                    </a:rPr>
                    <a:t>←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Shift+Ctrl+End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623120" y="2923920"/>
                  <a:ext cx="2000160" cy="270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624000" y="2923920"/>
                <a:ext cx="2282760" cy="2702520"/>
                <a:chOff x="6624000" y="2923920"/>
                <a:chExt cx="2282760" cy="27025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730200" y="2923920"/>
                  <a:ext cx="2069640" cy="270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左选取一个字符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选取下一行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选取到当前行尾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选取下一屏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3300"/>
                      </a:solidFill>
                      <a:latin typeface="Times New Roman"/>
                    </a:rPr>
                    <a:t>左选取一个字或单词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700" spc="-1" strike="noStrike">
                      <a:solidFill>
                        <a:srgbClr val="ff3300"/>
                      </a:solidFill>
                      <a:latin typeface="Times New Roman"/>
                    </a:rPr>
                    <a:t>移到文档末尾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624000" y="2923920"/>
                  <a:ext cx="2282760" cy="270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228600" y="1828800"/>
              <a:ext cx="8686440" cy="3809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220968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屏幕状态栏右边有一个框：“扩展”框。用鼠标单击“扩展”框，或按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，来启动扩展选取方式。先将插入点移到文字块开头处，再启动扩展选取方式，然后通过移动箭头键选取任意数量的文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关闭扩展方式，用鼠标双击“扩展”框或按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s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即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7040" y="86364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用扩展方式选取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5120" y="25146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鼠标移动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通过剪贴板移动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移动文本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6240" y="1828800"/>
            <a:ext cx="6134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法一：用菜单命令进行复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法二：用“常用”工具栏复制文字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复制文本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76" name="剪贴板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3076560" cy="2830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869800" y="3200400"/>
            <a:ext cx="9118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7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剪贴板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00280" y="205740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编辑时若不小心把有用的字删除了，可采用撤消操作恢复。选择“编辑”菜单中的“撤消”命令，或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trl+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，就可撤消前一次的误操作。另外还可使用“常用”工具栏上的“撤消清除”按钮撤消错误的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要重复前一次的操作，可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或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trl+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合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撤消和重复操作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629080" y="2362320"/>
            <a:ext cx="3886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查找文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替换文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查找与替换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77164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372360" cy="2073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4320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8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找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3832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367600" cy="2925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8600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19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找”对话框的扩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814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195880" cy="2766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09680" y="4876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0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1.2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启动和退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Word 2000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24160" y="211788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启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ord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ord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015680" y="636264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148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71800" y="1773360"/>
            <a:ext cx="3198960" cy="3309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819520" y="5257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1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动更正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自动更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243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54360" y="1832040"/>
            <a:ext cx="5433840" cy="319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62908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2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拼写检查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拼写检查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2.6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文档显示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1905120"/>
            <a:ext cx="5334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普通视图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式视图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页面视图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大纲视图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打印预览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-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全屏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3004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63880" y="1625760"/>
            <a:ext cx="5014800" cy="3605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14600" y="56386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56386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5791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5410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纲视图方式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6704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424240" y="2006640"/>
            <a:ext cx="4295520" cy="2844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62908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4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印预览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84360" y="123984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76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3-21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315200" cy="617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7432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5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印预览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09320" y="1905120"/>
            <a:ext cx="54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hlinkClick r:id="rId1" action="ppaction://hlinksldjump"/>
              </a:rPr>
              <a:t>3.3.1   设置字符格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hlinkClick r:id="rId2" action="ppaction://hlinksldjump"/>
              </a:rPr>
              <a:t>3.3.2   段落的格式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hlinkClick r:id="rId3" action="ppaction://hlinksldjump"/>
              </a:rPr>
              <a:t>3.3.3   项目符号和编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hlinkClick r:id="rId4" action="ppaction://hlinksldjump"/>
              </a:rPr>
              <a:t>3.3.4   分栏排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hlinkClick r:id="rId5" action="ppaction://hlinksldjump"/>
              </a:rPr>
              <a:t>3.3.5   样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hlinkClick r:id="rId6" action="ppaction://hlinksldjump"/>
              </a:rPr>
              <a:t>3.3.6   使用模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hlinkClick r:id="rId7" action="ppaction://hlinksldjump"/>
              </a:rPr>
              <a:t>3.3.7   页面设置和打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.3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文档的排版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8" name="">
            <a:hlinkClick r:id="rId8" action="ppaction://hlinksldjump"/>
          </p:cNvPr>
          <p:cNvSpPr/>
          <p:nvPr/>
        </p:nvSpPr>
        <p:spPr>
          <a:xfrm>
            <a:off x="7015680" y="636264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9" action="ppaction://hlinksldjump"/>
              </a:rPr>
              <a:t>返回本章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76240" y="2209680"/>
            <a:ext cx="7391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字符格式（如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-2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示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使用格式工具栏设置字符格式（如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-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示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使用菜单命令设置字体（如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-2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示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置字符间距（如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-2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示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“其他格式”工具栏（如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示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复制字符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3.1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设置字符格式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14400" y="2362320"/>
            <a:ext cx="7620120" cy="23619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号普通文字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号黑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隶书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加粗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倾斜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加下划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删除线   波浪线  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</a:rPr>
              <a:t>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  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字符缩放  </a:t>
            </a:r>
            <a:r>
              <a:rPr b="1" lang="zh-CN" sz="2400" spc="-1" strike="noStrike">
                <a:solidFill>
                  <a:srgbClr val="000000"/>
                </a:solidFill>
                <a:latin typeface="方正隶二简体"/>
                <a:ea typeface="方正隶二简体"/>
              </a:rPr>
              <a:t>字符间距加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字符间距紧缩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字符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</a:rPr>
              <a:t>位置提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字符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位置降低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字符底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字符加边框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空心字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阴影字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态效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47840" y="5181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6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格式设置演示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菜单3-4" descr=""/>
          <p:cNvPicPr/>
          <p:nvPr/>
        </p:nvPicPr>
        <p:blipFill>
          <a:blip r:embed="rId1"/>
          <a:stretch/>
        </p:blipFill>
        <p:spPr>
          <a:xfrm>
            <a:off x="457200" y="2990880"/>
            <a:ext cx="8229600" cy="43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7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1.3    Word 20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的窗口组成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514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 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窗口主要包括标题栏、菜单栏、各种工具栏、标尺、文本编辑区、滚动条和状态栏等，各部分功能介绍如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38760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784200" y="2438280"/>
            <a:ext cx="91188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8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体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0532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666880" y="1725480"/>
            <a:ext cx="3038760" cy="3405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37160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9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体”对话框中“字符间距”选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95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640" y="1752480"/>
            <a:ext cx="7848360" cy="2821680"/>
            <a:chOff x="647640" y="1752480"/>
            <a:chExt cx="7848360" cy="2821680"/>
          </a:xfrm>
        </p:grpSpPr>
        <p:pic>
          <p:nvPicPr>
            <p:cNvPr id="234" name="其他格式" descr=""/>
            <p:cNvPicPr/>
            <p:nvPr/>
          </p:nvPicPr>
          <p:blipFill>
            <a:blip r:embed="rId1"/>
            <a:stretch/>
          </p:blipFill>
          <p:spPr>
            <a:xfrm>
              <a:off x="1903320" y="2742840"/>
              <a:ext cx="4865760" cy="8114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235" name=""/>
            <p:cNvSpPr/>
            <p:nvPr/>
          </p:nvSpPr>
          <p:spPr>
            <a:xfrm>
              <a:off x="647640" y="4114440"/>
              <a:ext cx="78483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突出显示　双删除线　并排字符　带圈字符　　分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10560" y="1752480"/>
              <a:ext cx="552672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　着重号　　拼音指南　　　设置行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275120" y="3352680"/>
              <a:ext cx="1020240" cy="914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74200" y="2133360"/>
              <a:ext cx="627480" cy="1143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5960" y="3428640"/>
              <a:ext cx="0" cy="838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708360" y="2133360"/>
              <a:ext cx="313920" cy="1143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00760" y="3428640"/>
              <a:ext cx="0" cy="914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1640" y="3428640"/>
              <a:ext cx="1491120" cy="838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042520" y="2209320"/>
              <a:ext cx="0" cy="99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42520" y="2209680"/>
              <a:ext cx="941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06160" y="2209680"/>
              <a:ext cx="0" cy="99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160" y="3428640"/>
              <a:ext cx="117720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138840" y="487692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0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格式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3.2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段落的格式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2057400"/>
            <a:ext cx="58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落缩进和对齐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行间距和段落间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动编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制表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边框和底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95280" y="2100240"/>
            <a:ext cx="6934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标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尺显示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，它上面有四种缩进标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“段落”命令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3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 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段落缩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6684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3856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4191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4191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95360" y="2324160"/>
            <a:ext cx="8153280" cy="2212200"/>
            <a:chOff x="495360" y="2324160"/>
            <a:chExt cx="8153280" cy="2212200"/>
          </a:xfrm>
        </p:grpSpPr>
        <p:sp>
          <p:nvSpPr>
            <p:cNvPr id="259" name=""/>
            <p:cNvSpPr/>
            <p:nvPr/>
          </p:nvSpPr>
          <p:spPr>
            <a:xfrm>
              <a:off x="1333440" y="2476440"/>
              <a:ext cx="3505320" cy="8254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悬挂缩进 　　首行缩进　　　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标尺" descr=""/>
            <p:cNvPicPr/>
            <p:nvPr/>
          </p:nvPicPr>
          <p:blipFill>
            <a:blip r:embed="rId1"/>
            <a:stretch/>
          </p:blipFill>
          <p:spPr>
            <a:xfrm>
              <a:off x="1181160" y="3162240"/>
              <a:ext cx="6976800" cy="30420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261" name=""/>
            <p:cNvSpPr/>
            <p:nvPr/>
          </p:nvSpPr>
          <p:spPr>
            <a:xfrm>
              <a:off x="7429320" y="2324160"/>
              <a:ext cx="1219320" cy="45972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右缩进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5360" y="3848040"/>
              <a:ext cx="1828800" cy="45972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制表符按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81360" y="3848040"/>
              <a:ext cx="1218960" cy="45972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左缩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14720" y="4076640"/>
              <a:ext cx="2210040" cy="45972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自定义制表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28920" y="3466800"/>
              <a:ext cx="0" cy="609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28920" y="4076640"/>
              <a:ext cx="990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71920" y="3252600"/>
              <a:ext cx="0" cy="837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19240" y="3314520"/>
              <a:ext cx="1219320" cy="685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19240" y="2857320"/>
              <a:ext cx="0" cy="456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24160" y="2856960"/>
              <a:ext cx="1752480" cy="3805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62840" y="2705040"/>
              <a:ext cx="0" cy="532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120" y="3466800"/>
              <a:ext cx="0" cy="5331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98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029200" cy="3504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819520" y="5257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2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落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7664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1240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落缩进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68580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8132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5029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4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个对齐方式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81080" y="2270160"/>
            <a:ext cx="5943240" cy="2315520"/>
            <a:chOff x="1981080" y="2270160"/>
            <a:chExt cx="5943240" cy="2315520"/>
          </a:xfrm>
        </p:grpSpPr>
        <p:sp>
          <p:nvSpPr>
            <p:cNvPr id="283" name=""/>
            <p:cNvSpPr/>
            <p:nvPr/>
          </p:nvSpPr>
          <p:spPr>
            <a:xfrm>
              <a:off x="1981080" y="2270160"/>
              <a:ext cx="5943240" cy="4597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左对齐    　居中  右对齐　分散对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对齐按钮" descr=""/>
            <p:cNvPicPr/>
            <p:nvPr/>
          </p:nvPicPr>
          <p:blipFill>
            <a:blip r:embed="rId1"/>
            <a:stretch/>
          </p:blipFill>
          <p:spPr>
            <a:xfrm>
              <a:off x="2703960" y="3410280"/>
              <a:ext cx="3694320" cy="1175400"/>
            </a:xfrm>
            <a:prstGeom prst="rect">
              <a:avLst/>
            </a:prstGeom>
            <a:ln w="9360">
              <a:solidFill>
                <a:srgbClr val="cc99ff"/>
              </a:solidFill>
              <a:miter/>
            </a:ln>
          </p:spPr>
        </p:pic>
        <p:sp>
          <p:nvSpPr>
            <p:cNvPr id="285" name=""/>
            <p:cNvSpPr/>
            <p:nvPr/>
          </p:nvSpPr>
          <p:spPr>
            <a:xfrm>
              <a:off x="2703960" y="2796480"/>
              <a:ext cx="561960" cy="70164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916240" y="2708640"/>
              <a:ext cx="321120" cy="70164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69080" y="2708640"/>
              <a:ext cx="0" cy="70164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2800" y="2708640"/>
              <a:ext cx="0" cy="78948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段落对齐</a:t>
            </a:r>
            <a:br>
              <a:rPr sz="3200"/>
            </a:b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8380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098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14600" y="1766880"/>
            <a:ext cx="3830760" cy="37195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调整行距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1621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835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题栏包含了控制窗口的三个按钮（最小化按钮、还原按钮、关闭按钮）、程序名称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icrosoft Word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正在编辑的文档名称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标题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6385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19520" y="1703520"/>
            <a:ext cx="3628800" cy="3573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819520" y="5410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5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行和分页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762120"/>
            <a:ext cx="42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段落换行和分页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514600" y="2011320"/>
            <a:ext cx="4114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添加边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设置段落底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设置页面边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添加边框和底纹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11004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171880" y="1817640"/>
            <a:ext cx="4800600" cy="3220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74320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6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框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90520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324160" y="1860480"/>
            <a:ext cx="4495680" cy="3135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590920" y="5257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7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底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193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209680" y="1768320"/>
            <a:ext cx="4724640" cy="3319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6668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8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边框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2716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359080" y="1711440"/>
            <a:ext cx="4424400" cy="3435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81952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9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制表位对齐正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设置制表位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6860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973240" y="1752480"/>
            <a:ext cx="3197520" cy="33530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743200" y="5410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0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表位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6003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928960" y="1697040"/>
            <a:ext cx="3284640" cy="34624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40048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1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字下沉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创建首字下沉效果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28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590920" y="1785960"/>
            <a:ext cx="4114800" cy="3311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819520" y="5334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字下沉效果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3.3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项目符号和编号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2286000"/>
            <a:ext cx="76197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三种方法可以创建项目符号或编号列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“自动套用格式”功能在键入时创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格式”工具栏上的“项目符号或编号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“格式”菜单中的“项目符号和编号”命令，应用或修改项目符号或编号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7640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48040" y="1733400"/>
            <a:ext cx="4581360" cy="307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09680" y="5105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2  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菜单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762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菜单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04920" y="9144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自动创建项目符号和编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2104920"/>
            <a:ext cx="7543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插入点移动到列表首行开始的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键入“＊”以创建项目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按空格键，然后键入列表的第一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结束段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下一列表项的文字，然后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572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使用“项目符号”和“编号”按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4572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3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目符号”和“编号”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990720" y="2819520"/>
            <a:ext cx="7467480" cy="672840"/>
            <a:chOff x="990720" y="2819520"/>
            <a:chExt cx="7467480" cy="672840"/>
          </a:xfrm>
        </p:grpSpPr>
        <p:pic>
          <p:nvPicPr>
            <p:cNvPr id="334" name="项目符号" descr=""/>
            <p:cNvPicPr/>
            <p:nvPr/>
          </p:nvPicPr>
          <p:blipFill>
            <a:blip r:embed="rId1"/>
            <a:stretch/>
          </p:blipFill>
          <p:spPr>
            <a:xfrm>
              <a:off x="3809880" y="2819520"/>
              <a:ext cx="1143000" cy="67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"/>
            <p:cNvGrpSpPr/>
            <p:nvPr/>
          </p:nvGrpSpPr>
          <p:grpSpPr>
            <a:xfrm>
              <a:off x="990720" y="2895480"/>
              <a:ext cx="7467480" cy="459720"/>
              <a:chOff x="990720" y="2895480"/>
              <a:chExt cx="746748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990720" y="2895480"/>
                <a:ext cx="746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“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编号”按钮　　　　                         “项目符号”按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819520" y="31240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029200" y="3124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04920" y="762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创建项目符号和编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48040" y="2406600"/>
            <a:ext cx="5047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创建项目符号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创建编号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38616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690800" cy="31086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895480" y="48006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4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目符号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97180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486400" cy="3004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790640" y="5105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5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定义项目符号列表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052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59120" y="1998720"/>
            <a:ext cx="5224320" cy="2859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552760" y="5105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6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符号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81320" y="1763640"/>
            <a:ext cx="4581360" cy="3328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7432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7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级符号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3.4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分栏排版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226836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利用“其他格式”工具栏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利用“格式”菜单分栏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-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创建分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733920"/>
            <a:ext cx="6933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设置分隔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分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分页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8861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分栏3－40" descr=""/>
          <p:cNvPicPr/>
          <p:nvPr/>
        </p:nvPicPr>
        <p:blipFill>
          <a:blip r:embed="rId1"/>
          <a:stretch/>
        </p:blipFill>
        <p:spPr>
          <a:xfrm>
            <a:off x="2019240" y="1733400"/>
            <a:ext cx="5105520" cy="33894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05740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8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“分栏”按钮建立二分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071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182680" y="1866960"/>
            <a:ext cx="4776840" cy="31240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70504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49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762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工具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670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菜单3-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7238880" cy="62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9092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3  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809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362320" y="1751040"/>
            <a:ext cx="5048280" cy="3355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438280" y="5257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0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选定的文档设置为三栏示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336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602080" y="1712880"/>
            <a:ext cx="3938400" cy="3430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438280" y="5334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1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隔符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.3.5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样式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274320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52560" y="211464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创建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样式分为两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符样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落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应用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修改和删除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0508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4871880" cy="33274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286000" y="47242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图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2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样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1194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样式3-45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4881600" cy="3633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40048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3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样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83860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800360" y="1219320"/>
            <a:ext cx="5543280" cy="3686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743200" y="5181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4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样式”列表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3.6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使用模板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1600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创建新模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1680" y="2362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文件”菜单中的“新建”命令，打开“新建”对话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一种模板类型标签，在该标签中选择一个模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模板”选项，单击“确定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对当前显示的内容按新模板的要求进行编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文件”中的“另存为”命令，出现“另存为”对话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用来保存模板的文件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击“保存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04920" y="8380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将现有文档保存为模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1981080"/>
            <a:ext cx="7010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打开作为模板保存的文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文件”菜单中的“另存为”命令，出现“另存为”对话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从“保存类型”列表框中选择“文档模板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用来保存模板的文件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文件名”文本框中输入模板的文件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保存“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15680" y="6351480"/>
            <a:ext cx="12780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3.7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页面设置和打印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2514600"/>
            <a:ext cx="3810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页面设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页眉和页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打印输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60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278080" y="1916280"/>
            <a:ext cx="4586400" cy="30254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438280" y="5105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5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设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4120" y="76212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页面设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855720"/>
            <a:ext cx="77724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标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水平标尺与鼠标可以改变段落的缩进、调整页边距、改变栏宽、设置制表位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编辑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区中有一个闪烁的竖线光标，表示当前插入点。每个段落结束有一个段落标志。在“视图”菜单中执行“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隐藏段落标记”命令，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隐藏段落标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滚动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户可移动滚动条的滑块或单击滚动条两端滚动箭头按钮，移动文档到不同的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01932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905360" cy="3205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66688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6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档网格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9052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023920" y="1600200"/>
            <a:ext cx="5096160" cy="3071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629080" y="5029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7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边距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64312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362320" y="1730520"/>
            <a:ext cx="4800600" cy="34509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666880" y="5334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8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脚”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1280" y="609480"/>
            <a:ext cx="19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页眉和页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600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5105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59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脚 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2819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2819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3581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52280" y="1981080"/>
            <a:ext cx="8915400" cy="2684880"/>
            <a:chOff x="152280" y="1981080"/>
            <a:chExt cx="8915400" cy="2684880"/>
          </a:xfrm>
        </p:grpSpPr>
        <p:pic>
          <p:nvPicPr>
            <p:cNvPr id="416" name="33-34页眉面页脚工具栏" descr=""/>
            <p:cNvPicPr/>
            <p:nvPr/>
          </p:nvPicPr>
          <p:blipFill>
            <a:blip r:embed="rId1"/>
            <a:stretch/>
          </p:blipFill>
          <p:spPr>
            <a:xfrm>
              <a:off x="152280" y="2971800"/>
              <a:ext cx="8610480" cy="85248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grpSp>
          <p:nvGrpSpPr>
            <p:cNvPr id="417" name=""/>
            <p:cNvGrpSpPr/>
            <p:nvPr/>
          </p:nvGrpSpPr>
          <p:grpSpPr>
            <a:xfrm>
              <a:off x="685800" y="1981080"/>
              <a:ext cx="8381880" cy="2684880"/>
              <a:chOff x="685800" y="1981080"/>
              <a:chExt cx="8381880" cy="2684880"/>
            </a:xfrm>
          </p:grpSpPr>
          <p:sp>
            <p:nvSpPr>
              <p:cNvPr id="418" name=""/>
              <p:cNvSpPr/>
              <p:nvPr/>
            </p:nvSpPr>
            <p:spPr>
              <a:xfrm>
                <a:off x="4343400" y="1981080"/>
                <a:ext cx="4724280" cy="398880"/>
              </a:xfrm>
              <a:prstGeom prst="rect">
                <a:avLst/>
              </a:prstGeom>
              <a:noFill/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显示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/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隐藏文档文字    在页眉和页脚切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85800" y="4267080"/>
                <a:ext cx="7467480" cy="398880"/>
              </a:xfrm>
              <a:prstGeom prst="rect">
                <a:avLst/>
              </a:prstGeom>
              <a:noFill/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插入页数   插入日期  页面位置  同前    显示前一项   显示下一项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38080" y="2438280"/>
                <a:ext cx="1447920" cy="398880"/>
              </a:xfrm>
              <a:prstGeom prst="rect">
                <a:avLst/>
              </a:prstGeom>
              <a:noFill/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插入页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09680" y="1981080"/>
                <a:ext cx="1828800" cy="398880"/>
              </a:xfrm>
              <a:prstGeom prst="rect">
                <a:avLst/>
              </a:prstGeom>
              <a:noFill/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设置页码格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38480" y="2362320"/>
                <a:ext cx="1501920" cy="398880"/>
              </a:xfrm>
              <a:prstGeom prst="rect">
                <a:avLst/>
              </a:prstGeom>
              <a:noFill/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插入时间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15000" y="2362320"/>
                <a:ext cx="0" cy="60948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6629400" y="2286000"/>
                <a:ext cx="1066680" cy="99072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24080" y="2286000"/>
                <a:ext cx="838080" cy="106668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904760" y="2666880"/>
                <a:ext cx="1219320" cy="76212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1218960" y="3657600"/>
                <a:ext cx="2286000" cy="68580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590560" y="3581280"/>
                <a:ext cx="1828800" cy="76212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657240" y="3581280"/>
                <a:ext cx="1600200" cy="76212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4647960" y="3657600"/>
                <a:ext cx="1524240" cy="60948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5790960" y="3581280"/>
                <a:ext cx="1371600" cy="76212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086600" y="3657600"/>
                <a:ext cx="457200" cy="60948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93832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905120" y="1859040"/>
            <a:ext cx="4681440" cy="31384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590920" y="5257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0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印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4600" y="762120"/>
            <a:ext cx="18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．打印输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.4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表格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5790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  <a:hlinkClick r:id="rId1" action="ppaction://hlinksldjump"/>
              </a:rPr>
              <a:t>3.4.1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2" action="ppaction://hlinksldjump"/>
              </a:rPr>
              <a:t>表格的建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  <a:hlinkClick r:id="rId3" action="ppaction://hlinksldjump"/>
              </a:rPr>
              <a:t>3.4.2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4" action="ppaction://hlinksldjump"/>
              </a:rPr>
              <a:t>表格的编辑与修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  <a:ea typeface="黑体"/>
                <a:hlinkClick r:id="rId5" action="ppaction://hlinksldjump"/>
              </a:rPr>
              <a:t>3.4.3   由表生成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6" action="ppaction://hlinksldjump"/>
          </p:cNvPr>
          <p:cNvSpPr/>
          <p:nvPr/>
        </p:nvSpPr>
        <p:spPr>
          <a:xfrm>
            <a:off x="7015680" y="636264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7" action="ppaction://hlinksldjump"/>
              </a:rPr>
              <a:t>返回本章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4191120" y="636264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362320" y="2206800"/>
            <a:ext cx="5295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用“常用”工具栏创建表格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使用“插入表格”对话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绘制表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将文本转换成表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3.4.1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表格的建立</a:t>
            </a:r>
            <a:br>
              <a:rPr sz="3200"/>
            </a:b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8596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表格3-4-1" descr=""/>
          <p:cNvPicPr/>
          <p:nvPr/>
        </p:nvPicPr>
        <p:blipFill>
          <a:blip r:embed="rId1"/>
          <a:stretch/>
        </p:blipFill>
        <p:spPr>
          <a:xfrm>
            <a:off x="2057400" y="1463760"/>
            <a:ext cx="4552920" cy="32763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7524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1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表格”按钮定义表格行列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51460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2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表格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0532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2781360" y="1725480"/>
            <a:ext cx="35812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46708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表格3-4-3" descr=""/>
          <p:cNvPicPr/>
          <p:nvPr/>
        </p:nvPicPr>
        <p:blipFill>
          <a:blip r:embed="rId1"/>
          <a:stretch/>
        </p:blipFill>
        <p:spPr>
          <a:xfrm>
            <a:off x="1981080" y="1297080"/>
            <a:ext cx="5334120" cy="38257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590920" y="5334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-6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绘制表格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2" action="ppaction://hlinksldjump"/>
          </p:cNvPr>
          <p:cNvSpPr/>
          <p:nvPr/>
        </p:nvSpPr>
        <p:spPr>
          <a:xfrm>
            <a:off x="7015680" y="6351480"/>
            <a:ext cx="1278000" cy="5101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4191120" y="6351480"/>
            <a:ext cx="2057400" cy="45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14:33:11Z</dcterms:created>
  <dc:creator>gsjf</dc:creator>
  <dc:description/>
  <dc:language>en-US</dc:language>
  <cp:lastModifiedBy>gsjf</cp:lastModifiedBy>
  <dcterms:modified xsi:type="dcterms:W3CDTF">2001-09-07T14:19:10Z</dcterms:modified>
  <cp:revision>58</cp:revision>
  <dc:subject/>
  <dc:title>PowerPoint 演示文稿</dc:title>
</cp:coreProperties>
</file>